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977D-5DB1-4331-9CBC-8E18C4918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3F2A-7299-403E-9A92-1EF7908EE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81F9-FE8C-40F0-AB92-3A689DD35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D159-1AAC-42C1-A6D6-F775AB8AE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6BBA-E08A-4267-85F9-C7BEE9465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CBD7-D0C5-4AF3-A4BF-F1CA98F9A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5EAF-6051-424B-A7FF-48DB8302A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2CA2-9025-4743-92FD-58CDF0C41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3466-7847-4369-B802-CBE623E87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D7EC-DDE8-4D4E-9AA3-45DA20306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998A-68FC-4491-8F1B-82752947B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55F3-95D0-4556-9C65-4CC8F7E2C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418C-7630-4171-AB6A-E44F62A79831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86" name="Título 1"/>
          <p:cNvSpPr/>
          <p:nvPr/>
        </p:nvSpPr>
        <p:spPr>
          <a:xfrm>
            <a:off x="1908000" y="3003480"/>
            <a:ext cx="62992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PDI-GEQIN-GGDIN-DI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io de Janeiro, 01 de junh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723-C227-4F3D-8B9E-3B6FEC1FEAF9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4360" y="1197000"/>
          <a:ext cx="7343640" cy="5278320"/>
        </p:xfrm>
        <a:graphic>
          <a:graphicData uri="http://schemas.openxmlformats.org/drawingml/2006/table">
            <a:tbl>
              <a:tblPr/>
              <a:tblGrid>
                <a:gridCol w="2592360"/>
                <a:gridCol w="2374920"/>
                <a:gridCol w="2376360"/>
              </a:tblGrid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grupamento de Contra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companhamento Econômico-Financeiro da Operad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ministradora de Planos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normalidades Administrativas e Assistenciais Gra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dministradora de Benefí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utogestão não Patrocin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uto de Infr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lienação Parcial de Cart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utogestão Patrocin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rta de Informação à Gesta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Área de Atuação do Prod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âmara téc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ertidão de Acredit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Área Geográfica de Abra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nsulta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ertificado de Entidade Acreditad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tendimento Identifi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entros Colabor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ódigo de Controle Oper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tivos Garanti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ordenador Médico de Infomação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mitê de Padronização das Informações em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utogest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pendência Oper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mitê Permanente de Regulação da Atenção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viso de Beneficiário Identifi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undo Dedicado ao Setor de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mitê Técnico de Avaliação da Qualidade Seto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au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undo Garantidor do Segmento de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ntrato de Orige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heque cau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vre Escolha do Prest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ntratualização (prestador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operativa méd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a Técnica de Ris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ntribuição para fins de Exercício do Direito de Aposentados e Pensionis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operativa Odontoló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úcleo Regional de Atendimento e Fisca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BB35-4252-4765-A862-674A0529024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4360" y="1039680"/>
          <a:ext cx="7343640" cy="5415120"/>
        </p:xfrm>
        <a:graphic>
          <a:graphicData uri="http://schemas.openxmlformats.org/drawingml/2006/table">
            <a:tbl>
              <a:tblPr/>
              <a:tblGrid>
                <a:gridCol w="2592360"/>
                <a:gridCol w="2376360"/>
                <a:gridCol w="2374920"/>
              </a:tblGrid>
              <a:tr h="5475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ados Integrados da Qua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or Técn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articipante de Plano Privado de Assistência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sponibilidade de Serviços Par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oria de Fisca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olítica de Qualificação d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sponibilidade de Serviços 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oria de Normas e Habilitação de Operado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rograma Olho v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Entendimento DIF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rizes Clín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gistro provisório de Prod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Extensão de 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que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paração Espontânea e imedia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ator Qua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ilantrop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ol de Procedimentos Médicos e Odontológ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arantia de Atendi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mpugnação ao 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egur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omolog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Medicina de Gru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stema de Avaliação de Desempenho Individual da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dentificação Padrão d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Nota Técnica de Registro de Prod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abela de Cus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móvel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Núcleos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ipo Compatí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móvel Oper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Odontologia de Gru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isita Téc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Índice de Reajus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adrão de Troca de Informações em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Índice de Reajuste Definido pela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lano de Recuper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B91E-5652-462F-9121-67663B5926CB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907920"/>
          <a:ext cx="7343640" cy="5616720"/>
        </p:xfrm>
        <a:graphic>
          <a:graphicData uri="http://schemas.openxmlformats.org/drawingml/2006/table">
            <a:tbl>
              <a:tblPr/>
              <a:tblGrid>
                <a:gridCol w="2592360"/>
                <a:gridCol w="2519280"/>
                <a:gridCol w="2232000"/>
              </a:tblGrid>
              <a:tr h="4813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266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Odontologia de Gru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evantamento Parcial de 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adrão de Troca de Informação em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evantamento Total de 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lano de Recuper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iquidante Extrajudi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lano de Recuperação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argem de Solv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grama de Monitoramento da Qualidade dos Prestadores de Serviços n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onitoramento do Risco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grama de Qualificação d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unicípio de Deman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visões Técn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unicípio de Atendimento do Beneficiá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cursos Próprios Mínim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unicípio do Beneficiá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embolso de Despesa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otificação de intermediação Preliminar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gião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otificação de Intermediação Preliminar não Assi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gime Especial de Liquidação 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Extrajudi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otificação Eletrônica de 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paração Voluntária e Efica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arto Adequ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presentação Contra a Operad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A144-536A-4C72-AE18-6FDEC2623259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1004760"/>
          <a:ext cx="7343640" cy="5408640"/>
        </p:xfrm>
        <a:graphic>
          <a:graphicData uri="http://schemas.openxmlformats.org/drawingml/2006/table">
            <a:tbl>
              <a:tblPr/>
              <a:tblGrid>
                <a:gridCol w="2952720"/>
                <a:gridCol w="2303280"/>
                <a:gridCol w="2087640"/>
              </a:tblGrid>
              <a:tr h="561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208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atrimônio Mínimo ajust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lano de Contas Padrão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eguradora especializada em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estador de Serviço de Assistência á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istema de informação de produ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cedimentos de Adequação Econômico-Financei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istema de informação de beneficiár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grama de Acreditação de Operadoras de Planos Privados de Assistência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axa de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grama de Saneamento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gramas para Promoção da Saúde e Prevenção de Riscos e Doenças n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moção da Saúde e Prevenção de Riscos e Doenças n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tocolo de Uti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tocolo Eletrônico de 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para Eventos/sinistros a Liquid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 de Eventos/sinistros ocorridos e não Avis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para remiss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4C0B-C1A6-47EF-B3AF-72B16587AE87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039680"/>
          <a:ext cx="7343640" cy="5626080"/>
        </p:xfrm>
        <a:graphic>
          <a:graphicData uri="http://schemas.openxmlformats.org/drawingml/2006/table">
            <a:tbl>
              <a:tblPr/>
              <a:tblGrid>
                <a:gridCol w="2592360"/>
                <a:gridCol w="2376360"/>
                <a:gridCol w="2374920"/>
              </a:tblGrid>
              <a:tr h="525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para Prêmios ou Contraprestações não Ganh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ede Contratualizada Dir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ede Contratualizada Indir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edimensionamento da Rede Hospitalar por Redu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istema Integrado de Fisca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ubstituição de Entidade Hospital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uspensão Temporária do Atendimento Hospital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Termo de Compromisso de Ajuste de Cond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Víncu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itu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ditação de Prestadors por Acreditação de Operadoras de Planos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ficação de investigação preliminar por Notificação de intermediação prelimi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07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07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FA04-7EC3-46CD-8EDF-86AA355BFEC9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ROPOSTA PARA O GLOSSÁRIO NO SITE DA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E97E-5942-4DC8-A2BB-58F4B84D4170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ROPOSTA PARA O GLOSSÁRIO NO SITE DA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m 2" descr=""/>
          <p:cNvPicPr/>
          <p:nvPr/>
        </p:nvPicPr>
        <p:blipFill>
          <a:blip r:embed="rId1"/>
          <a:stretch/>
        </p:blipFill>
        <p:spPr>
          <a:xfrm>
            <a:off x="0" y="1044720"/>
            <a:ext cx="914400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0A3-2A9F-4CA6-98AA-ACFCD0DA5A30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15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21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agem 1" descr=""/>
          <p:cNvPicPr/>
          <p:nvPr/>
        </p:nvPicPr>
        <p:blipFill>
          <a:blip r:embed="rId5"/>
          <a:stretch/>
        </p:blipFill>
        <p:spPr>
          <a:xfrm>
            <a:off x="1903320" y="5145120"/>
            <a:ext cx="530244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Carla Valeria Cazarim Godoy</cp:lastModifiedBy>
  <cp:lastPrinted>2016-05-25T19:41:00Z</cp:lastPrinted>
  <dcterms:modified xsi:type="dcterms:W3CDTF">2016-05-25T19:41:49Z</dcterms:modified>
  <cp:revision>108</cp:revision>
  <dc:subject/>
  <dc:title>Slide 1</dc:title>
</cp:coreProperties>
</file>